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27.wmf" ContentType="image/x-wmf"/>
  <Override PartName="/ppt/media/image4.wmf" ContentType="image/x-wmf"/>
  <Override PartName="/ppt/media/image5.png" ContentType="image/png"/>
  <Override PartName="/ppt/media/image3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29.png" ContentType="image/png"/>
  <Override PartName="/ppt/media/image32.wmf" ContentType="image/x-wmf"/>
  <Override PartName="/ppt/media/image38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50.png" ContentType="image/png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34.png" ContentType="image/png"/>
  <Override PartName="/ppt/media/image39.png" ContentType="image/png"/>
  <Override PartName="/ppt/media/image51.png" ContentType="image/png"/>
  <Override PartName="/ppt/media/image4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2.png" ContentType="image/png"/>
  <Override PartName="/ppt/media/image13.png" ContentType="image/png"/>
  <Override PartName="/ppt/media/image53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8CE-3D3D-41A2-974C-62ABD71A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BFE-C741-41C2-BC8E-11857152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ABE-82EE-4CA6-A1AB-D209422B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044-D764-4D5A-8F21-08DADEDB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5F6-D8D4-4958-9E5A-B93B60B5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738-B7D8-42CD-B07F-FF3957BC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037-8AD5-4893-9ED2-51E15E73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AF3-3AFD-44E8-BD86-F94C57F7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698-4CB2-4A9F-A943-EC071663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13D-DA99-4EF5-8BD3-B8659AB8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0CF-5B60-44FA-8203-EFE3ECE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363-9D37-439A-AA74-45D0035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72EA-02BE-4E57-8848-EF3A1633B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6200" y="533520"/>
            <a:ext cx="486108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CURREN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240" y="1600200"/>
            <a:ext cx="8593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6400" y="4027320"/>
            <a:ext cx="50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GE CANNOT BE CREATED NOR DESTROYE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143000" y="4419720"/>
          <a:ext cx="74962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74962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66680" y="457200"/>
          <a:ext cx="7048800" cy="20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7200"/>
                    <a:ext cx="7048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752480" y="251460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0" y="259092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04920" y="60199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2362320" y="4267080"/>
            <a:ext cx="304560" cy="38124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4419720"/>
            <a:ext cx="228600" cy="30456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010280" y="41148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91120" y="411480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638680" y="4343400"/>
            <a:ext cx="30492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295280" y="15228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952880" y="22860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 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33720" y="388620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83320" y="365760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nd 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80880" y="838080"/>
          <a:ext cx="83822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822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828800" y="685800"/>
            <a:ext cx="228600" cy="30492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946080" y="2666880"/>
                <a:ext cx="1930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886200" y="685800"/>
            <a:ext cx="419112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041800" y="2819520"/>
                <a:ext cx="3035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152280" y="4038480"/>
          <a:ext cx="5715000" cy="21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57150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59092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413080" y="38862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029200" y="50292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52388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14440" y="380988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952880" y="4343400"/>
                <a:ext cx="58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429000" y="2286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219240"/>
          <a:ext cx="62485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240"/>
                    <a:ext cx="62485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733920" y="274320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422520" y="3276720"/>
                <a:ext cx="22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73160" y="5029200"/>
                <a:ext cx="2919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 flipV="1">
            <a:off x="990720" y="2666880"/>
            <a:ext cx="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38080" y="5486400"/>
                <a:ext cx="1708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907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195720" y="36576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95360" y="36450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143000" y="2590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172200" y="304812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172200" y="190512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19320" y="1143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2952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259092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66688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47000" y="3962520"/>
            <a:ext cx="10342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22800" y="4359240"/>
            <a:ext cx="30610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ARK ALL THE KNOWN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12360" y="4740120"/>
            <a:ext cx="40212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NODES WHERE ALL BUT O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88620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79080" y="304920"/>
            <a:ext cx="45698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TERMINE THE CURRENTS IN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28600" y="-76320"/>
          <a:ext cx="563868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76320"/>
                    <a:ext cx="5638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200400" y="2590920"/>
            <a:ext cx="3808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590920"/>
            <a:ext cx="38124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2590920"/>
            <a:ext cx="9144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828800" y="220968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057400" y="3124080"/>
                <a:ext cx="18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 flipV="1">
            <a:off x="3581280" y="29714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25909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47920" y="1752480"/>
                <a:ext cx="163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0" y="312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006640" y="105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334120" y="2516040"/>
            <a:ext cx="3124080" cy="1508400"/>
            <a:chOff x="5334120" y="2516040"/>
            <a:chExt cx="3124080" cy="1508400"/>
          </a:xfrm>
        </p:grpSpPr>
        <p:sp>
          <p:nvSpPr>
            <p:cNvPr id="268" name=""/>
            <p:cNvSpPr/>
            <p:nvPr/>
          </p:nvSpPr>
          <p:spPr>
            <a:xfrm>
              <a:off x="5334120" y="2590920"/>
              <a:ext cx="3808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791320" y="2516040"/>
              <a:ext cx="2666880" cy="1508400"/>
              <a:chOff x="5791320" y="2516040"/>
              <a:chExt cx="2666880" cy="1508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6172200" y="2516040"/>
                    <a:ext cx="2286000" cy="110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RIFICATION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71" name=""/>
              <p:cNvGrpSpPr/>
              <p:nvPr/>
            </p:nvGrpSpPr>
            <p:grpSpPr>
              <a:xfrm>
                <a:off x="5791320" y="2971800"/>
                <a:ext cx="315720" cy="1052640"/>
                <a:chOff x="5791320" y="2971800"/>
                <a:chExt cx="315720" cy="1052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91320" y="2971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73" name=""/>
                    <p:cNvSpPr txBox="1"/>
                    <p:nvPr/>
                  </p:nvSpPr>
                  <p:spPr>
                    <a:xfrm>
                      <a:off x="5867280" y="373392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500040" y="1330200"/>
          <a:ext cx="37702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30200"/>
                    <a:ext cx="37702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170080" y="149400"/>
            <a:ext cx="40579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question tests KCL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to denote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2960" y="888840"/>
            <a:ext cx="48578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se sum of currents leaving nod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90720" y="1523880"/>
                <a:ext cx="2774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452960" y="3962520"/>
            <a:ext cx="578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53240" y="426708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4251240"/>
            <a:ext cx="36828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76720" y="182844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3200400"/>
            <a:ext cx="60984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26668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429000" y="2590920"/>
                <a:ext cx="1989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605960" y="4648320"/>
            <a:ext cx="493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2200" y="501336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5013360"/>
            <a:ext cx="39996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580960" y="6084720"/>
            <a:ext cx="563040" cy="773280"/>
            <a:chOff x="8580960" y="6084720"/>
            <a:chExt cx="563040" cy="773280"/>
          </a:xfrm>
        </p:grpSpPr>
        <p:pic>
          <p:nvPicPr>
            <p:cNvPr id="291" name="" descr=""/>
            <p:cNvPicPr/>
            <p:nvPr/>
          </p:nvPicPr>
          <p:blipFill>
            <a:blip r:embed="rId3"/>
            <a:stretch/>
          </p:blipFill>
          <p:spPr>
            <a:xfrm>
              <a:off x="862956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580960" y="6084720"/>
              <a:ext cx="546480" cy="3373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74760" y="519120"/>
            <a:ext cx="482580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VOLTAG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8960" y="1616040"/>
            <a:ext cx="74959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42000" y="3402000"/>
            <a:ext cx="5301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 CONSERVATION OF ENERGY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NERGY CANNOT BE CREATE NOR DESTROY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99520" y="141120"/>
            <a:ext cx="34725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IRCHHOFF VOLTAGE LAW (KV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4040" y="457200"/>
            <a:ext cx="455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IS A CONSERVATION OF ENERGY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0" y="777960"/>
            <a:ext cx="47678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ITIVE CHARGE GAINS ENERGY AS IT MO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A POINT WITH HIGHER VOLTAGE AND REL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ERGY IF IT MOVES TO A POINT WITH 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9320" y="1752480"/>
          <a:ext cx="199368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1993680" cy="1652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533520" y="4114800"/>
          <a:ext cx="35812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35812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410080" y="304920"/>
          <a:ext cx="2667240" cy="19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04920"/>
                    <a:ext cx="2667240" cy="199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302080" y="5968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162920" y="838080"/>
            <a:ext cx="380880" cy="76212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816680" y="143676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 flipH="1">
            <a:off x="6248520" y="1752480"/>
            <a:ext cx="121896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388200" y="22050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5442120" y="15840"/>
            <a:ext cx="271116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THOUGHT EXPERIM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0240" y="2606760"/>
            <a:ext cx="4021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HARGE COMES BACK TO THE S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ITIAL POINT THE NET ENERGY G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ZERO (Conservative net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86640" y="3368520"/>
            <a:ext cx="42346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WISE THE CHARGE COULD END UP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FINITE ENERGY, OR SUPPLY AN 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MOUNT OF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587920" y="411012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965120" y="4664160"/>
            <a:ext cx="38077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: THE ALGEBRAIC SUM OF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OPS AROUND ANY LOOP MUST BE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334120" y="5337000"/>
          <a:ext cx="327636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337000"/>
                    <a:ext cx="3276360" cy="119700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480960" y="-57240"/>
          <a:ext cx="330372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-57240"/>
                    <a:ext cx="330372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923760" y="2957400"/>
                <a:ext cx="2571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5" name=""/>
          <p:cNvGraphicFramePr/>
          <p:nvPr/>
        </p:nvGraphicFramePr>
        <p:xfrm>
          <a:off x="-76320" y="3429000"/>
          <a:ext cx="432144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429000"/>
                    <a:ext cx="432144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225440" y="4400640"/>
                <a:ext cx="927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701880" y="3867120"/>
                <a:ext cx="93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379080" y="5883120"/>
            <a:ext cx="14608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bcde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6248520"/>
          <a:ext cx="4149720" cy="41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6248520"/>
                    <a:ext cx="4149720" cy="41724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572000" y="1219320"/>
          <a:ext cx="432108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219320"/>
                    <a:ext cx="43210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638680" y="1828800"/>
            <a:ext cx="1397160" cy="1238400"/>
          </a:xfrm>
          <a:custGeom>
            <a:avLst/>
            <a:gdLst/>
            <a:ahLst/>
            <a:rect l="l" t="t" r="r" b="b"/>
            <a:pathLst>
              <a:path w="880" h="780">
                <a:moveTo>
                  <a:pt x="26" y="756"/>
                </a:moveTo>
                <a:cubicBezTo>
                  <a:pt x="79" y="602"/>
                  <a:pt x="5" y="502"/>
                  <a:pt x="2" y="367"/>
                </a:cubicBezTo>
                <a:cubicBezTo>
                  <a:pt x="0" y="253"/>
                  <a:pt x="2" y="138"/>
                  <a:pt x="2" y="24"/>
                </a:cubicBezTo>
                <a:cubicBezTo>
                  <a:pt x="795" y="16"/>
                  <a:pt x="672" y="251"/>
                  <a:pt x="797" y="0"/>
                </a:cubicBezTo>
                <a:cubicBezTo>
                  <a:pt x="880" y="250"/>
                  <a:pt x="867" y="487"/>
                  <a:pt x="867" y="756"/>
                </a:cubicBezTo>
                <a:cubicBezTo>
                  <a:pt x="772" y="739"/>
                  <a:pt x="675" y="749"/>
                  <a:pt x="579" y="733"/>
                </a:cubicBezTo>
                <a:cubicBezTo>
                  <a:pt x="436" y="738"/>
                  <a:pt x="293" y="738"/>
                  <a:pt x="151" y="756"/>
                </a:cubicBezTo>
                <a:cubicBezTo>
                  <a:pt x="133" y="768"/>
                  <a:pt x="118" y="780"/>
                  <a:pt x="96" y="7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30480" y="914400"/>
            <a:ext cx="4127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DOES NOT HAVE TO BE 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7067520" y="1981080"/>
                <a:ext cx="324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486400" y="4648320"/>
                <a:ext cx="27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2819520" y="6172200"/>
            <a:ext cx="5331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30480" y="152280"/>
            <a:ext cx="412776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ROBLEM SOLVING TIP: KVL IS USE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DETERMINE A VOLTAGE - FIND A LO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CLUDING THE UNKNOWN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334120" y="3809880"/>
                <a:ext cx="32004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AMPLE: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 KNOW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THE VOLTAGE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78560" y="168120"/>
            <a:ext cx="43412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WHEN DISCUSSING KCL WE SA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NOT ALL POSSIBLE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INDEPENDENT. WE SHALL SEE TH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SITUATION ARISES WHEN USING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0" y="1219320"/>
          <a:ext cx="465768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576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428760" y="2228760"/>
            <a:ext cx="1143000" cy="2075040"/>
          </a:xfrm>
          <a:custGeom>
            <a:avLst/>
            <a:gdLst/>
            <a:ahLst/>
            <a:rect l="l" t="t" r="r" b="b"/>
            <a:pathLst>
              <a:path w="720" h="1309">
                <a:moveTo>
                  <a:pt x="65" y="0"/>
                </a:moveTo>
                <a:cubicBezTo>
                  <a:pt x="278" y="23"/>
                  <a:pt x="469" y="39"/>
                  <a:pt x="688" y="39"/>
                </a:cubicBezTo>
                <a:cubicBezTo>
                  <a:pt x="691" y="335"/>
                  <a:pt x="692" y="631"/>
                  <a:pt x="696" y="927"/>
                </a:cubicBezTo>
                <a:cubicBezTo>
                  <a:pt x="697" y="992"/>
                  <a:pt x="701" y="1057"/>
                  <a:pt x="704" y="1122"/>
                </a:cubicBezTo>
                <a:cubicBezTo>
                  <a:pt x="711" y="1289"/>
                  <a:pt x="657" y="1286"/>
                  <a:pt x="720" y="1286"/>
                </a:cubicBezTo>
                <a:cubicBezTo>
                  <a:pt x="590" y="1288"/>
                  <a:pt x="460" y="1290"/>
                  <a:pt x="330" y="1293"/>
                </a:cubicBezTo>
                <a:cubicBezTo>
                  <a:pt x="252" y="1295"/>
                  <a:pt x="174" y="1297"/>
                  <a:pt x="96" y="1301"/>
                </a:cubicBezTo>
                <a:cubicBezTo>
                  <a:pt x="70" y="1302"/>
                  <a:pt x="18" y="1309"/>
                  <a:pt x="18" y="1309"/>
                </a:cubicBezTo>
                <a:cubicBezTo>
                  <a:pt x="0" y="942"/>
                  <a:pt x="11" y="569"/>
                  <a:pt x="11" y="2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04920" y="4648320"/>
          <a:ext cx="339408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33940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1676520" y="1930320"/>
            <a:ext cx="2430360" cy="2524320"/>
          </a:xfrm>
          <a:custGeom>
            <a:avLst/>
            <a:gdLst/>
            <a:ahLst/>
            <a:rect l="l" t="t" r="r" b="b"/>
            <a:pathLst>
              <a:path w="1531" h="1590">
                <a:moveTo>
                  <a:pt x="125" y="8"/>
                </a:moveTo>
                <a:cubicBezTo>
                  <a:pt x="512" y="18"/>
                  <a:pt x="899" y="8"/>
                  <a:pt x="1286" y="0"/>
                </a:cubicBezTo>
                <a:cubicBezTo>
                  <a:pt x="1507" y="8"/>
                  <a:pt x="1431" y="8"/>
                  <a:pt x="1512" y="8"/>
                </a:cubicBezTo>
                <a:cubicBezTo>
                  <a:pt x="1531" y="748"/>
                  <a:pt x="1520" y="221"/>
                  <a:pt x="1520" y="1590"/>
                </a:cubicBezTo>
                <a:cubicBezTo>
                  <a:pt x="1247" y="1580"/>
                  <a:pt x="975" y="1560"/>
                  <a:pt x="701" y="1551"/>
                </a:cubicBezTo>
                <a:cubicBezTo>
                  <a:pt x="468" y="1531"/>
                  <a:pt x="234" y="1513"/>
                  <a:pt x="0" y="1496"/>
                </a:cubicBezTo>
                <a:cubicBezTo>
                  <a:pt x="8" y="1493"/>
                  <a:pt x="23" y="1488"/>
                  <a:pt x="23" y="1488"/>
                </a:cubicBezTo>
                <a:cubicBezTo>
                  <a:pt x="11" y="1040"/>
                  <a:pt x="0" y="589"/>
                  <a:pt x="0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57200" y="5181480"/>
          <a:ext cx="3602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181480"/>
                    <a:ext cx="3602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52280" y="1676520"/>
            <a:ext cx="4343400" cy="2895480"/>
          </a:xfrm>
          <a:custGeom>
            <a:avLst/>
            <a:gdLst/>
            <a:ahLst/>
            <a:rect l="l" t="t" r="r" b="b"/>
            <a:pathLst>
              <a:path w="2736" h="1824">
                <a:moveTo>
                  <a:pt x="96" y="0"/>
                </a:moveTo>
                <a:lnTo>
                  <a:pt x="2736" y="48"/>
                </a:lnTo>
                <a:lnTo>
                  <a:pt x="2736" y="1824"/>
                </a:lnTo>
                <a:lnTo>
                  <a:pt x="0" y="1824"/>
                </a:lnTo>
                <a:lnTo>
                  <a:pt x="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57200" y="5691240"/>
          <a:ext cx="35812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691240"/>
                    <a:ext cx="3581280" cy="5554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160920" y="6340320"/>
            <a:ext cx="4021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THIRD EQUATION IS THE SUM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 TW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35320" y="168120"/>
            <a:ext cx="3594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SNEAK PREVIEW ON THE 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LY INDEPENDENT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334120" y="679320"/>
                <a:ext cx="2908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CIRCUIT DEFIN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NUMBER OF NODE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NUMBER OF BRANCH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29200" y="1752480"/>
                <a:ext cx="38098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CL EQUATIONS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VL EQU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673880" y="3521160"/>
            <a:ext cx="4447800" cy="94644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: FOR THE CIRCUIT SHOWN WE HAV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 = 6, B = 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NCE THERE ARE ONLY TWO INDEPE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0" y="762120"/>
          <a:ext cx="46893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6893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304920" y="304920"/>
                <a:ext cx="4044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1295280" y="1558800"/>
            <a:ext cx="720720" cy="841680"/>
          </a:xfrm>
          <a:custGeom>
            <a:avLst/>
            <a:gdLst/>
            <a:ahLst/>
            <a:rect l="l" t="t" r="r" b="b"/>
            <a:pathLst>
              <a:path w="454" h="530">
                <a:moveTo>
                  <a:pt x="33" y="0"/>
                </a:moveTo>
                <a:cubicBezTo>
                  <a:pt x="41" y="30"/>
                  <a:pt x="57" y="49"/>
                  <a:pt x="65" y="78"/>
                </a:cubicBezTo>
                <a:cubicBezTo>
                  <a:pt x="70" y="95"/>
                  <a:pt x="70" y="121"/>
                  <a:pt x="88" y="132"/>
                </a:cubicBezTo>
                <a:cubicBezTo>
                  <a:pt x="102" y="141"/>
                  <a:pt x="119" y="143"/>
                  <a:pt x="135" y="148"/>
                </a:cubicBezTo>
                <a:cubicBezTo>
                  <a:pt x="153" y="162"/>
                  <a:pt x="185" y="183"/>
                  <a:pt x="197" y="203"/>
                </a:cubicBezTo>
                <a:cubicBezTo>
                  <a:pt x="208" y="222"/>
                  <a:pt x="205" y="249"/>
                  <a:pt x="220" y="265"/>
                </a:cubicBezTo>
                <a:cubicBezTo>
                  <a:pt x="231" y="277"/>
                  <a:pt x="251" y="275"/>
                  <a:pt x="267" y="280"/>
                </a:cubicBezTo>
                <a:cubicBezTo>
                  <a:pt x="272" y="301"/>
                  <a:pt x="274" y="323"/>
                  <a:pt x="283" y="343"/>
                </a:cubicBezTo>
                <a:cubicBezTo>
                  <a:pt x="287" y="353"/>
                  <a:pt x="299" y="358"/>
                  <a:pt x="306" y="366"/>
                </a:cubicBezTo>
                <a:cubicBezTo>
                  <a:pt x="312" y="373"/>
                  <a:pt x="316" y="382"/>
                  <a:pt x="322" y="390"/>
                </a:cubicBezTo>
                <a:cubicBezTo>
                  <a:pt x="342" y="416"/>
                  <a:pt x="362" y="444"/>
                  <a:pt x="384" y="468"/>
                </a:cubicBezTo>
                <a:cubicBezTo>
                  <a:pt x="404" y="490"/>
                  <a:pt x="433" y="509"/>
                  <a:pt x="454" y="530"/>
                </a:cubicBezTo>
                <a:lnTo>
                  <a:pt x="0" y="506"/>
                </a:lnTo>
                <a:lnTo>
                  <a:pt x="0" y="7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14400" y="3666960"/>
          <a:ext cx="297324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666960"/>
                    <a:ext cx="2973240" cy="708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371600" y="1523880"/>
            <a:ext cx="2590920" cy="914400"/>
          </a:xfrm>
          <a:custGeom>
            <a:avLst/>
            <a:gdLst/>
            <a:ahLst/>
            <a:rect l="l" t="t" r="r" b="b"/>
            <a:pathLst>
              <a:path w="1632" h="576">
                <a:moveTo>
                  <a:pt x="0" y="0"/>
                </a:moveTo>
                <a:lnTo>
                  <a:pt x="672" y="576"/>
                </a:lnTo>
                <a:lnTo>
                  <a:pt x="1632" y="576"/>
                </a:lnTo>
                <a:lnTo>
                  <a:pt x="1584" y="4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4429080"/>
          <a:ext cx="406728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29080"/>
                    <a:ext cx="4067280" cy="6192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29040" y="5054760"/>
            <a:ext cx="42346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IVEN THE CHOICE USE THE SIMPLEST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1447920"/>
            <a:ext cx="1371600" cy="129528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768"/>
                </a:moveTo>
                <a:lnTo>
                  <a:pt x="864" y="0"/>
                </a:lnTo>
                <a:lnTo>
                  <a:pt x="816" y="816"/>
                </a:lnTo>
                <a:lnTo>
                  <a:pt x="144" y="81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990720" y="5419800"/>
          <a:ext cx="2135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9800"/>
                    <a:ext cx="2135160" cy="523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4886640" y="92160"/>
            <a:ext cx="4234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HANDLED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665600" y="685800"/>
          <a:ext cx="4478400" cy="254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65600" y="685800"/>
                    <a:ext cx="4478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562720" y="137160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0" y="0"/>
                </a:moveTo>
                <a:lnTo>
                  <a:pt x="720" y="0"/>
                </a:lnTo>
                <a:lnTo>
                  <a:pt x="720" y="816"/>
                </a:lnTo>
                <a:lnTo>
                  <a:pt x="48" y="816"/>
                </a:lnTo>
                <a:lnTo>
                  <a:pt x="48" y="14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5638680" y="3352680"/>
          <a:ext cx="261792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352680"/>
                    <a:ext cx="2617920" cy="482760"/>
                  </a:xfrm>
                  <a:prstGeom prst="rect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086600" y="1447920"/>
            <a:ext cx="1447920" cy="121896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96" y="0"/>
                </a:moveTo>
                <a:lnTo>
                  <a:pt x="912" y="0"/>
                </a:lnTo>
                <a:lnTo>
                  <a:pt x="912" y="768"/>
                </a:lnTo>
                <a:lnTo>
                  <a:pt x="0" y="768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410080" y="4000680"/>
          <a:ext cx="3132360" cy="48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00680"/>
                    <a:ext cx="3132360" cy="482400"/>
                  </a:xfrm>
                  <a:prstGeom prst="rect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86" name="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398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98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887040" y="193680"/>
            <a:ext cx="31982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DES, BRANCHES,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40" y="357012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: point where two, or more,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re joined (e.g., big nod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838080"/>
            <a:ext cx="2286000" cy="3812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240" y="416412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OP: A closed path that never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wice over a node (e.g., the blue l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4840" y="1150920"/>
            <a:ext cx="1928880" cy="1984320"/>
          </a:xfrm>
          <a:custGeom>
            <a:avLst/>
            <a:gdLst/>
            <a:ahLst/>
            <a:rect l="l" t="t" r="r" b="b"/>
            <a:pathLst>
              <a:path w="1215" h="1247">
                <a:moveTo>
                  <a:pt x="568" y="1247"/>
                </a:moveTo>
                <a:cubicBezTo>
                  <a:pt x="572" y="1190"/>
                  <a:pt x="584" y="1133"/>
                  <a:pt x="584" y="1075"/>
                </a:cubicBezTo>
                <a:cubicBezTo>
                  <a:pt x="584" y="945"/>
                  <a:pt x="576" y="686"/>
                  <a:pt x="576" y="686"/>
                </a:cubicBezTo>
                <a:cubicBezTo>
                  <a:pt x="51" y="678"/>
                  <a:pt x="243" y="678"/>
                  <a:pt x="0" y="678"/>
                </a:cubicBezTo>
                <a:cubicBezTo>
                  <a:pt x="9" y="674"/>
                  <a:pt x="24" y="676"/>
                  <a:pt x="26" y="667"/>
                </a:cubicBezTo>
                <a:cubicBezTo>
                  <a:pt x="30" y="645"/>
                  <a:pt x="15" y="623"/>
                  <a:pt x="15" y="600"/>
                </a:cubicBezTo>
                <a:cubicBezTo>
                  <a:pt x="14" y="571"/>
                  <a:pt x="21" y="543"/>
                  <a:pt x="23" y="514"/>
                </a:cubicBezTo>
                <a:cubicBezTo>
                  <a:pt x="34" y="347"/>
                  <a:pt x="46" y="162"/>
                  <a:pt x="46" y="0"/>
                </a:cubicBezTo>
                <a:cubicBezTo>
                  <a:pt x="436" y="7"/>
                  <a:pt x="825" y="23"/>
                  <a:pt x="1215" y="23"/>
                </a:cubicBezTo>
                <a:cubicBezTo>
                  <a:pt x="1212" y="324"/>
                  <a:pt x="1212" y="626"/>
                  <a:pt x="1207" y="927"/>
                </a:cubicBezTo>
                <a:cubicBezTo>
                  <a:pt x="1206" y="1013"/>
                  <a:pt x="1184" y="1098"/>
                  <a:pt x="1184" y="1184"/>
                </a:cubicBezTo>
                <a:cubicBezTo>
                  <a:pt x="1059" y="1187"/>
                  <a:pt x="935" y="1188"/>
                  <a:pt x="810" y="1192"/>
                </a:cubicBezTo>
                <a:cubicBezTo>
                  <a:pt x="771" y="1193"/>
                  <a:pt x="732" y="1200"/>
                  <a:pt x="693" y="1200"/>
                </a:cubicBezTo>
                <a:cubicBezTo>
                  <a:pt x="672" y="1200"/>
                  <a:pt x="631" y="1192"/>
                  <a:pt x="631" y="119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295280"/>
            <a:ext cx="167652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576" y="432"/>
                </a:moveTo>
                <a:lnTo>
                  <a:pt x="576" y="0"/>
                </a:lnTo>
                <a:lnTo>
                  <a:pt x="1008" y="0"/>
                </a:lnTo>
                <a:lnTo>
                  <a:pt x="1056" y="384"/>
                </a:lnTo>
                <a:lnTo>
                  <a:pt x="0" y="384"/>
                </a:lnTo>
                <a:lnTo>
                  <a:pt x="0" y="48"/>
                </a:lnTo>
                <a:lnTo>
                  <a:pt x="576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240" y="523080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RANCH: Component connected between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s (e.g., component R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704880" cy="663840"/>
          </a:xfrm>
          <a:custGeom>
            <a:avLst/>
            <a:gdLst/>
            <a:ahLst/>
            <a:rect l="l" t="t" r="r" b="b"/>
            <a:pathLst>
              <a:path w="444" h="418">
                <a:moveTo>
                  <a:pt x="413" y="67"/>
                </a:moveTo>
                <a:cubicBezTo>
                  <a:pt x="355" y="62"/>
                  <a:pt x="247" y="52"/>
                  <a:pt x="194" y="52"/>
                </a:cubicBezTo>
                <a:cubicBezTo>
                  <a:pt x="12" y="52"/>
                  <a:pt x="15" y="0"/>
                  <a:pt x="15" y="67"/>
                </a:cubicBezTo>
                <a:cubicBezTo>
                  <a:pt x="5" y="176"/>
                  <a:pt x="0" y="285"/>
                  <a:pt x="0" y="395"/>
                </a:cubicBezTo>
                <a:cubicBezTo>
                  <a:pt x="1" y="395"/>
                  <a:pt x="136" y="418"/>
                  <a:pt x="155" y="418"/>
                </a:cubicBezTo>
                <a:cubicBezTo>
                  <a:pt x="251" y="418"/>
                  <a:pt x="444" y="410"/>
                  <a:pt x="444" y="410"/>
                </a:cubicBezTo>
                <a:cubicBezTo>
                  <a:pt x="436" y="132"/>
                  <a:pt x="436" y="228"/>
                  <a:pt x="436" y="122"/>
                </a:cubicBez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080" y="4713120"/>
            <a:ext cx="335052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d path is NOT a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0" y="2286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NODE CONNECTS SEVERAL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IT DOES NOT HOLD ANY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95760" y="914400"/>
            <a:ext cx="39146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TAL CURRENT FLOWING INTO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EQUAL TO TOTAL CURRENT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96480" y="1828800"/>
            <a:ext cx="4021200" cy="3962520"/>
            <a:chOff x="4596480" y="1828800"/>
            <a:chExt cx="4021200" cy="3962520"/>
          </a:xfrm>
        </p:grpSpPr>
        <p:sp>
          <p:nvSpPr>
            <p:cNvPr id="63" name=""/>
            <p:cNvSpPr/>
            <p:nvPr/>
          </p:nvSpPr>
          <p:spPr>
            <a:xfrm>
              <a:off x="4596480" y="1828800"/>
              <a:ext cx="4021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(A CONSERVATION OF CHARGE PRINCIP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5257800"/>
              <a:ext cx="83844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257800" y="2133720"/>
            <a:ext cx="2978280" cy="304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2133720"/>
                      <a:ext cx="2978280" cy="30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19920" y="4267080"/>
              <a:ext cx="1447560" cy="106704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76320" y="76320"/>
          <a:ext cx="264636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264636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819520" y="533520"/>
                <a:ext cx="1504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990720" y="609480"/>
            <a:ext cx="106668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0"/>
                </a:moveTo>
                <a:lnTo>
                  <a:pt x="672" y="576"/>
                </a:lnTo>
                <a:lnTo>
                  <a:pt x="672" y="48"/>
                </a:lnTo>
                <a:lnTo>
                  <a:pt x="96" y="48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5400" y="90972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657600" y="914400"/>
                <a:ext cx="4888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990720" y="533520"/>
            <a:ext cx="1143000" cy="2361960"/>
          </a:xfrm>
          <a:custGeom>
            <a:avLst/>
            <a:gdLst/>
            <a:ahLst/>
            <a:rect l="l" t="t" r="r" b="b"/>
            <a:pathLst>
              <a:path w="720" h="1488">
                <a:moveTo>
                  <a:pt x="720" y="0"/>
                </a:moveTo>
                <a:lnTo>
                  <a:pt x="0" y="1488"/>
                </a:lnTo>
                <a:lnTo>
                  <a:pt x="720" y="1488"/>
                </a:lnTo>
                <a:lnTo>
                  <a:pt x="720" y="144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857160" y="250992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657600" y="1295280"/>
                <a:ext cx="44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8" name=""/>
          <p:cNvGraphicFramePr/>
          <p:nvPr/>
        </p:nvGraphicFramePr>
        <p:xfrm>
          <a:off x="304920" y="3429000"/>
          <a:ext cx="39430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3943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76200" y="5938920"/>
                <a:ext cx="33051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990720" y="4038480"/>
            <a:ext cx="2286000" cy="914400"/>
          </a:xfrm>
          <a:custGeom>
            <a:avLst/>
            <a:gdLst/>
            <a:ahLst/>
            <a:rect l="l" t="t" r="r" b="b"/>
            <a:pathLst>
              <a:path w="1440" h="576">
                <a:moveTo>
                  <a:pt x="48" y="0"/>
                </a:moveTo>
                <a:lnTo>
                  <a:pt x="1440" y="576"/>
                </a:lnTo>
                <a:lnTo>
                  <a:pt x="0" y="57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914400" y="464328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209680" y="3886200"/>
            <a:ext cx="129564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336"/>
                </a:moveTo>
                <a:lnTo>
                  <a:pt x="0" y="0"/>
                </a:lnTo>
                <a:lnTo>
                  <a:pt x="768" y="0"/>
                </a:lnTo>
                <a:lnTo>
                  <a:pt x="816" y="720"/>
                </a:lnTo>
                <a:lnTo>
                  <a:pt x="48" y="72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752480" y="411012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05" name=""/>
          <p:cNvGraphicFramePr/>
          <p:nvPr/>
        </p:nvGraphicFramePr>
        <p:xfrm>
          <a:off x="4724280" y="152280"/>
          <a:ext cx="3938760" cy="19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52280"/>
                    <a:ext cx="39387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648320" y="1981080"/>
                <a:ext cx="15872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660920" y="2362320"/>
                <a:ext cx="2120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 FIND 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IR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5562720" y="685800"/>
            <a:ext cx="2057400" cy="1066680"/>
          </a:xfrm>
          <a:custGeom>
            <a:avLst/>
            <a:gdLst/>
            <a:ahLst/>
            <a:rect l="l" t="t" r="r" b="b"/>
            <a:pathLst>
              <a:path w="1296" h="672">
                <a:moveTo>
                  <a:pt x="0" y="624"/>
                </a:moveTo>
                <a:lnTo>
                  <a:pt x="0" y="0"/>
                </a:lnTo>
                <a:lnTo>
                  <a:pt x="1296" y="0"/>
                </a:lnTo>
                <a:lnTo>
                  <a:pt x="1296" y="672"/>
                </a:lnTo>
                <a:lnTo>
                  <a:pt x="96" y="672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648320" y="2666880"/>
                <a:ext cx="3022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410080" y="1981080"/>
                <a:ext cx="4050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4883760" y="306396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NOT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ICULT TO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49120" y="3597120"/>
            <a:ext cx="434124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INDER: IN A RESISTOR THE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DIRECTIONS MUST SATISF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952880" y="4495680"/>
          <a:ext cx="1366920" cy="195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95680"/>
                    <a:ext cx="136692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876920" y="5029200"/>
                <a:ext cx="255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17" name=""/>
          <p:cNvGraphicFramePr/>
          <p:nvPr/>
        </p:nvGraphicFramePr>
        <p:xfrm>
          <a:off x="6781680" y="4876920"/>
          <a:ext cx="1779840" cy="12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4876920"/>
                    <a:ext cx="17798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7162920" y="5791320"/>
                <a:ext cx="1001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0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228600" y="1046160"/>
          <a:ext cx="7010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6160"/>
                    <a:ext cx="7010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1227600" y="162000"/>
            <a:ext cx="247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920" y="4267080"/>
            <a:ext cx="850788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need to find a closed path where only one volta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03320" y="1600200"/>
            <a:ext cx="2349360" cy="120636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808" y="96"/>
                </a:moveTo>
                <a:cubicBezTo>
                  <a:pt x="1032" y="48"/>
                  <a:pt x="1256" y="0"/>
                  <a:pt x="1336" y="96"/>
                </a:cubicBezTo>
                <a:cubicBezTo>
                  <a:pt x="1416" y="192"/>
                  <a:pt x="1480" y="584"/>
                  <a:pt x="1288" y="672"/>
                </a:cubicBezTo>
                <a:cubicBezTo>
                  <a:pt x="1096" y="760"/>
                  <a:pt x="368" y="720"/>
                  <a:pt x="184" y="624"/>
                </a:cubicBezTo>
                <a:cubicBezTo>
                  <a:pt x="0" y="528"/>
                  <a:pt x="88" y="184"/>
                  <a:pt x="184" y="96"/>
                </a:cubicBezTo>
                <a:cubicBezTo>
                  <a:pt x="280" y="8"/>
                  <a:pt x="664" y="96"/>
                  <a:pt x="760" y="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880920" y="4950000"/>
                <a:ext cx="2811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4839840" y="1736640"/>
            <a:ext cx="49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19240" y="1257480"/>
            <a:ext cx="1994040" cy="1485720"/>
          </a:xfrm>
          <a:custGeom>
            <a:avLst/>
            <a:gdLst/>
            <a:ahLst/>
            <a:rect l="l" t="t" r="r" b="b"/>
            <a:pathLst>
              <a:path w="1256" h="936">
                <a:moveTo>
                  <a:pt x="696" y="936"/>
                </a:moveTo>
                <a:cubicBezTo>
                  <a:pt x="348" y="644"/>
                  <a:pt x="0" y="352"/>
                  <a:pt x="72" y="216"/>
                </a:cubicBezTo>
                <a:cubicBezTo>
                  <a:pt x="144" y="80"/>
                  <a:pt x="1000" y="0"/>
                  <a:pt x="1128" y="120"/>
                </a:cubicBezTo>
                <a:cubicBezTo>
                  <a:pt x="1256" y="240"/>
                  <a:pt x="1048" y="588"/>
                  <a:pt x="840" y="936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33840" y="4929120"/>
                <a:ext cx="32781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877280" y="2209680"/>
            <a:ext cx="57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32360" y="3195720"/>
            <a:ext cx="15782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st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457200"/>
          <a:ext cx="640080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400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5084640" y="166680"/>
            <a:ext cx="328968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are no loops with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unknown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3520" y="3429000"/>
            <a:ext cx="49129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current through the 5k and 10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istors is the same. Henc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 across the 5k is one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of the drop across the 10k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60840" y="1355760"/>
            <a:ext cx="124128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Vx/2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990720" y="4952880"/>
                <a:ext cx="39733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1219320" y="1143000"/>
            <a:ext cx="3657600" cy="1879560"/>
          </a:xfrm>
          <a:custGeom>
            <a:avLst/>
            <a:gdLst/>
            <a:ahLst/>
            <a:rect l="l" t="t" r="r" b="b"/>
            <a:pathLst>
              <a:path w="2304" h="1184">
                <a:moveTo>
                  <a:pt x="248" y="1120"/>
                </a:moveTo>
                <a:cubicBezTo>
                  <a:pt x="124" y="720"/>
                  <a:pt x="0" y="320"/>
                  <a:pt x="296" y="160"/>
                </a:cubicBezTo>
                <a:cubicBezTo>
                  <a:pt x="592" y="0"/>
                  <a:pt x="1744" y="16"/>
                  <a:pt x="2024" y="160"/>
                </a:cubicBezTo>
                <a:cubicBezTo>
                  <a:pt x="2304" y="304"/>
                  <a:pt x="2256" y="864"/>
                  <a:pt x="1976" y="1024"/>
                </a:cubicBezTo>
                <a:cubicBezTo>
                  <a:pt x="1696" y="1184"/>
                  <a:pt x="1020" y="1152"/>
                  <a:pt x="344" y="112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0400" y="762120"/>
            <a:ext cx="1917720" cy="2514600"/>
          </a:xfrm>
          <a:custGeom>
            <a:avLst/>
            <a:gdLst/>
            <a:ahLst/>
            <a:rect l="l" t="t" r="r" b="b"/>
            <a:pathLst>
              <a:path w="1208" h="1584">
                <a:moveTo>
                  <a:pt x="152" y="472"/>
                </a:moveTo>
                <a:cubicBezTo>
                  <a:pt x="76" y="852"/>
                  <a:pt x="0" y="1232"/>
                  <a:pt x="152" y="1384"/>
                </a:cubicBezTo>
                <a:cubicBezTo>
                  <a:pt x="304" y="1536"/>
                  <a:pt x="920" y="1584"/>
                  <a:pt x="1064" y="1384"/>
                </a:cubicBezTo>
                <a:cubicBezTo>
                  <a:pt x="1208" y="1184"/>
                  <a:pt x="1160" y="368"/>
                  <a:pt x="1016" y="184"/>
                </a:cubicBezTo>
                <a:cubicBezTo>
                  <a:pt x="872" y="0"/>
                  <a:pt x="336" y="264"/>
                  <a:pt x="200" y="2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334120" y="4114800"/>
                <a:ext cx="28922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46400" y="41400"/>
            <a:ext cx="38840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 CURRENT LAW (K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3440" y="41292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FLOWING INTO A NOD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L TO SUM OF CURRENTS FLOWING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62040" y="1219320"/>
          <a:ext cx="289584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562040" y="1219320"/>
                    <a:ext cx="2895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897120" y="3200400"/>
            <a:ext cx="4447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S FLOWING IN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7640" y="2590920"/>
            <a:ext cx="45547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 (FLOWING)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943600" y="2438280"/>
          <a:ext cx="2208240" cy="20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438280"/>
                    <a:ext cx="220824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486400" y="4724280"/>
          <a:ext cx="3495600" cy="8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724280"/>
                    <a:ext cx="34956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85800" y="1512720"/>
          <a:ext cx="7696080" cy="38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12720"/>
                    <a:ext cx="769608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60640" y="270000"/>
            <a:ext cx="895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 node is a point of connection of two or more circuit el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t may be stretched out or compressed for visual purpos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ut it is still a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843200" y="1319040"/>
            <a:ext cx="6080040" cy="3911760"/>
            <a:chOff x="1843200" y="1319040"/>
            <a:chExt cx="6080040" cy="3911760"/>
          </a:xfrm>
        </p:grpSpPr>
        <p:sp>
          <p:nvSpPr>
            <p:cNvPr id="88" name=""/>
            <p:cNvSpPr/>
            <p:nvPr/>
          </p:nvSpPr>
          <p:spPr>
            <a:xfrm>
              <a:off x="1949400" y="1319040"/>
              <a:ext cx="5973840" cy="1049400"/>
            </a:xfrm>
            <a:custGeom>
              <a:avLst/>
              <a:gdLst/>
              <a:ahLst/>
              <a:rect l="l" t="t" r="r" b="b"/>
              <a:pathLst>
                <a:path w="3763" h="661">
                  <a:moveTo>
                    <a:pt x="538" y="368"/>
                  </a:moveTo>
                  <a:cubicBezTo>
                    <a:pt x="535" y="315"/>
                    <a:pt x="536" y="261"/>
                    <a:pt x="528" y="208"/>
                  </a:cubicBezTo>
                  <a:cubicBezTo>
                    <a:pt x="526" y="194"/>
                    <a:pt x="515" y="183"/>
                    <a:pt x="509" y="170"/>
                  </a:cubicBezTo>
                  <a:cubicBezTo>
                    <a:pt x="441" y="10"/>
                    <a:pt x="363" y="11"/>
                    <a:pt x="198" y="0"/>
                  </a:cubicBezTo>
                  <a:cubicBezTo>
                    <a:pt x="173" y="3"/>
                    <a:pt x="146" y="0"/>
                    <a:pt x="122" y="9"/>
                  </a:cubicBezTo>
                  <a:cubicBezTo>
                    <a:pt x="101" y="17"/>
                    <a:pt x="85" y="34"/>
                    <a:pt x="66" y="47"/>
                  </a:cubicBezTo>
                  <a:cubicBezTo>
                    <a:pt x="56" y="53"/>
                    <a:pt x="37" y="66"/>
                    <a:pt x="37" y="66"/>
                  </a:cubicBezTo>
                  <a:cubicBezTo>
                    <a:pt x="13" y="102"/>
                    <a:pt x="8" y="127"/>
                    <a:pt x="0" y="170"/>
                  </a:cubicBezTo>
                  <a:cubicBezTo>
                    <a:pt x="3" y="220"/>
                    <a:pt x="4" y="271"/>
                    <a:pt x="9" y="321"/>
                  </a:cubicBezTo>
                  <a:cubicBezTo>
                    <a:pt x="15" y="392"/>
                    <a:pt x="12" y="577"/>
                    <a:pt x="103" y="623"/>
                  </a:cubicBezTo>
                  <a:cubicBezTo>
                    <a:pt x="146" y="645"/>
                    <a:pt x="223" y="652"/>
                    <a:pt x="273" y="661"/>
                  </a:cubicBezTo>
                  <a:cubicBezTo>
                    <a:pt x="338" y="653"/>
                    <a:pt x="366" y="656"/>
                    <a:pt x="415" y="623"/>
                  </a:cubicBezTo>
                  <a:cubicBezTo>
                    <a:pt x="438" y="590"/>
                    <a:pt x="462" y="574"/>
                    <a:pt x="491" y="548"/>
                  </a:cubicBezTo>
                  <a:cubicBezTo>
                    <a:pt x="511" y="530"/>
                    <a:pt x="547" y="491"/>
                    <a:pt x="547" y="491"/>
                  </a:cubicBezTo>
                  <a:cubicBezTo>
                    <a:pt x="551" y="466"/>
                    <a:pt x="551" y="425"/>
                    <a:pt x="576" y="406"/>
                  </a:cubicBezTo>
                  <a:cubicBezTo>
                    <a:pt x="601" y="387"/>
                    <a:pt x="713" y="346"/>
                    <a:pt x="727" y="340"/>
                  </a:cubicBezTo>
                  <a:cubicBezTo>
                    <a:pt x="776" y="320"/>
                    <a:pt x="816" y="297"/>
                    <a:pt x="868" y="283"/>
                  </a:cubicBezTo>
                  <a:cubicBezTo>
                    <a:pt x="921" y="248"/>
                    <a:pt x="948" y="253"/>
                    <a:pt x="1019" y="245"/>
                  </a:cubicBezTo>
                  <a:cubicBezTo>
                    <a:pt x="1088" y="223"/>
                    <a:pt x="1158" y="217"/>
                    <a:pt x="1227" y="198"/>
                  </a:cubicBezTo>
                  <a:cubicBezTo>
                    <a:pt x="1304" y="176"/>
                    <a:pt x="1374" y="144"/>
                    <a:pt x="1454" y="132"/>
                  </a:cubicBezTo>
                  <a:cubicBezTo>
                    <a:pt x="1504" y="106"/>
                    <a:pt x="1550" y="102"/>
                    <a:pt x="1605" y="94"/>
                  </a:cubicBezTo>
                  <a:cubicBezTo>
                    <a:pt x="1723" y="56"/>
                    <a:pt x="1952" y="55"/>
                    <a:pt x="2077" y="47"/>
                  </a:cubicBezTo>
                  <a:cubicBezTo>
                    <a:pt x="2455" y="58"/>
                    <a:pt x="2832" y="89"/>
                    <a:pt x="3210" y="104"/>
                  </a:cubicBezTo>
                  <a:cubicBezTo>
                    <a:pt x="3289" y="119"/>
                    <a:pt x="3367" y="136"/>
                    <a:pt x="3446" y="151"/>
                  </a:cubicBezTo>
                  <a:cubicBezTo>
                    <a:pt x="3544" y="200"/>
                    <a:pt x="3679" y="267"/>
                    <a:pt x="3739" y="359"/>
                  </a:cubicBezTo>
                  <a:cubicBezTo>
                    <a:pt x="3763" y="435"/>
                    <a:pt x="3705" y="494"/>
                    <a:pt x="3635" y="519"/>
                  </a:cubicBezTo>
                  <a:cubicBezTo>
                    <a:pt x="3567" y="543"/>
                    <a:pt x="3498" y="584"/>
                    <a:pt x="3427" y="595"/>
                  </a:cubicBezTo>
                  <a:cubicBezTo>
                    <a:pt x="3336" y="610"/>
                    <a:pt x="3244" y="619"/>
                    <a:pt x="3153" y="633"/>
                  </a:cubicBezTo>
                  <a:cubicBezTo>
                    <a:pt x="2818" y="623"/>
                    <a:pt x="2587" y="616"/>
                    <a:pt x="2285" y="595"/>
                  </a:cubicBezTo>
                  <a:cubicBezTo>
                    <a:pt x="2201" y="577"/>
                    <a:pt x="2115" y="570"/>
                    <a:pt x="2030" y="557"/>
                  </a:cubicBezTo>
                  <a:cubicBezTo>
                    <a:pt x="1936" y="520"/>
                    <a:pt x="1842" y="493"/>
                    <a:pt x="1746" y="463"/>
                  </a:cubicBezTo>
                  <a:cubicBezTo>
                    <a:pt x="1727" y="450"/>
                    <a:pt x="1708" y="438"/>
                    <a:pt x="1690" y="425"/>
                  </a:cubicBezTo>
                  <a:cubicBezTo>
                    <a:pt x="1677" y="416"/>
                    <a:pt x="1652" y="397"/>
                    <a:pt x="1652" y="397"/>
                  </a:cubicBezTo>
                  <a:cubicBezTo>
                    <a:pt x="1603" y="323"/>
                    <a:pt x="1666" y="410"/>
                    <a:pt x="1605" y="349"/>
                  </a:cubicBezTo>
                  <a:cubicBezTo>
                    <a:pt x="1588" y="332"/>
                    <a:pt x="1575" y="310"/>
                    <a:pt x="1558" y="293"/>
                  </a:cubicBezTo>
                  <a:cubicBezTo>
                    <a:pt x="1548" y="262"/>
                    <a:pt x="1520" y="206"/>
                    <a:pt x="1520" y="17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43200" y="4357800"/>
              <a:ext cx="6048360" cy="873000"/>
            </a:xfrm>
            <a:custGeom>
              <a:avLst/>
              <a:gdLst/>
              <a:ahLst/>
              <a:rect l="l" t="t" r="r" b="b"/>
              <a:pathLst>
                <a:path w="3810" h="550">
                  <a:moveTo>
                    <a:pt x="605" y="343"/>
                  </a:moveTo>
                  <a:cubicBezTo>
                    <a:pt x="602" y="299"/>
                    <a:pt x="602" y="254"/>
                    <a:pt x="595" y="211"/>
                  </a:cubicBezTo>
                  <a:cubicBezTo>
                    <a:pt x="587" y="165"/>
                    <a:pt x="529" y="122"/>
                    <a:pt x="501" y="88"/>
                  </a:cubicBezTo>
                  <a:cubicBezTo>
                    <a:pt x="494" y="79"/>
                    <a:pt x="492" y="65"/>
                    <a:pt x="482" y="59"/>
                  </a:cubicBezTo>
                  <a:cubicBezTo>
                    <a:pt x="448" y="38"/>
                    <a:pt x="407" y="35"/>
                    <a:pt x="369" y="22"/>
                  </a:cubicBezTo>
                  <a:cubicBezTo>
                    <a:pt x="359" y="19"/>
                    <a:pt x="340" y="12"/>
                    <a:pt x="340" y="12"/>
                  </a:cubicBezTo>
                  <a:cubicBezTo>
                    <a:pt x="223" y="18"/>
                    <a:pt x="140" y="0"/>
                    <a:pt x="48" y="59"/>
                  </a:cubicBezTo>
                  <a:cubicBezTo>
                    <a:pt x="29" y="87"/>
                    <a:pt x="19" y="116"/>
                    <a:pt x="0" y="144"/>
                  </a:cubicBezTo>
                  <a:cubicBezTo>
                    <a:pt x="9" y="214"/>
                    <a:pt x="14" y="291"/>
                    <a:pt x="76" y="333"/>
                  </a:cubicBezTo>
                  <a:cubicBezTo>
                    <a:pt x="122" y="403"/>
                    <a:pt x="169" y="431"/>
                    <a:pt x="246" y="456"/>
                  </a:cubicBezTo>
                  <a:cubicBezTo>
                    <a:pt x="312" y="501"/>
                    <a:pt x="396" y="491"/>
                    <a:pt x="473" y="503"/>
                  </a:cubicBezTo>
                  <a:cubicBezTo>
                    <a:pt x="485" y="502"/>
                    <a:pt x="599" y="489"/>
                    <a:pt x="614" y="484"/>
                  </a:cubicBezTo>
                  <a:cubicBezTo>
                    <a:pt x="625" y="481"/>
                    <a:pt x="632" y="470"/>
                    <a:pt x="643" y="465"/>
                  </a:cubicBezTo>
                  <a:cubicBezTo>
                    <a:pt x="661" y="457"/>
                    <a:pt x="699" y="447"/>
                    <a:pt x="699" y="447"/>
                  </a:cubicBezTo>
                  <a:cubicBezTo>
                    <a:pt x="709" y="441"/>
                    <a:pt x="718" y="433"/>
                    <a:pt x="728" y="428"/>
                  </a:cubicBezTo>
                  <a:cubicBezTo>
                    <a:pt x="737" y="424"/>
                    <a:pt x="748" y="423"/>
                    <a:pt x="756" y="418"/>
                  </a:cubicBezTo>
                  <a:cubicBezTo>
                    <a:pt x="801" y="391"/>
                    <a:pt x="841" y="357"/>
                    <a:pt x="888" y="333"/>
                  </a:cubicBezTo>
                  <a:cubicBezTo>
                    <a:pt x="971" y="291"/>
                    <a:pt x="847" y="369"/>
                    <a:pt x="954" y="305"/>
                  </a:cubicBezTo>
                  <a:cubicBezTo>
                    <a:pt x="1014" y="269"/>
                    <a:pt x="1067" y="241"/>
                    <a:pt x="1134" y="220"/>
                  </a:cubicBezTo>
                  <a:cubicBezTo>
                    <a:pt x="1178" y="190"/>
                    <a:pt x="1229" y="196"/>
                    <a:pt x="1275" y="173"/>
                  </a:cubicBezTo>
                  <a:cubicBezTo>
                    <a:pt x="1362" y="129"/>
                    <a:pt x="1287" y="155"/>
                    <a:pt x="1351" y="135"/>
                  </a:cubicBezTo>
                  <a:cubicBezTo>
                    <a:pt x="1384" y="112"/>
                    <a:pt x="1419" y="103"/>
                    <a:pt x="1455" y="88"/>
                  </a:cubicBezTo>
                  <a:cubicBezTo>
                    <a:pt x="1522" y="60"/>
                    <a:pt x="1463" y="80"/>
                    <a:pt x="1530" y="41"/>
                  </a:cubicBezTo>
                  <a:cubicBezTo>
                    <a:pt x="1558" y="25"/>
                    <a:pt x="1595" y="18"/>
                    <a:pt x="1625" y="3"/>
                  </a:cubicBezTo>
                  <a:cubicBezTo>
                    <a:pt x="1903" y="16"/>
                    <a:pt x="2176" y="59"/>
                    <a:pt x="2456" y="69"/>
                  </a:cubicBezTo>
                  <a:cubicBezTo>
                    <a:pt x="2657" y="96"/>
                    <a:pt x="2846" y="110"/>
                    <a:pt x="3050" y="116"/>
                  </a:cubicBezTo>
                  <a:cubicBezTo>
                    <a:pt x="3069" y="119"/>
                    <a:pt x="3088" y="124"/>
                    <a:pt x="3107" y="126"/>
                  </a:cubicBezTo>
                  <a:cubicBezTo>
                    <a:pt x="3145" y="130"/>
                    <a:pt x="3183" y="130"/>
                    <a:pt x="3220" y="135"/>
                  </a:cubicBezTo>
                  <a:cubicBezTo>
                    <a:pt x="3250" y="139"/>
                    <a:pt x="3277" y="153"/>
                    <a:pt x="3305" y="163"/>
                  </a:cubicBezTo>
                  <a:cubicBezTo>
                    <a:pt x="3365" y="183"/>
                    <a:pt x="3432" y="198"/>
                    <a:pt x="3494" y="211"/>
                  </a:cubicBezTo>
                  <a:cubicBezTo>
                    <a:pt x="3538" y="205"/>
                    <a:pt x="3568" y="204"/>
                    <a:pt x="3608" y="192"/>
                  </a:cubicBezTo>
                  <a:cubicBezTo>
                    <a:pt x="3627" y="186"/>
                    <a:pt x="3664" y="173"/>
                    <a:pt x="3664" y="173"/>
                  </a:cubicBezTo>
                  <a:cubicBezTo>
                    <a:pt x="3680" y="176"/>
                    <a:pt x="3696" y="175"/>
                    <a:pt x="3711" y="182"/>
                  </a:cubicBezTo>
                  <a:cubicBezTo>
                    <a:pt x="3732" y="191"/>
                    <a:pt x="3768" y="220"/>
                    <a:pt x="3768" y="220"/>
                  </a:cubicBezTo>
                  <a:cubicBezTo>
                    <a:pt x="3789" y="252"/>
                    <a:pt x="3796" y="277"/>
                    <a:pt x="3806" y="314"/>
                  </a:cubicBezTo>
                  <a:cubicBezTo>
                    <a:pt x="3803" y="333"/>
                    <a:pt x="3810" y="358"/>
                    <a:pt x="3796" y="371"/>
                  </a:cubicBezTo>
                  <a:cubicBezTo>
                    <a:pt x="3779" y="386"/>
                    <a:pt x="3752" y="377"/>
                    <a:pt x="3730" y="381"/>
                  </a:cubicBezTo>
                  <a:cubicBezTo>
                    <a:pt x="3686" y="390"/>
                    <a:pt x="3654" y="411"/>
                    <a:pt x="3608" y="418"/>
                  </a:cubicBezTo>
                  <a:cubicBezTo>
                    <a:pt x="3557" y="435"/>
                    <a:pt x="3519" y="448"/>
                    <a:pt x="3466" y="456"/>
                  </a:cubicBezTo>
                  <a:cubicBezTo>
                    <a:pt x="3346" y="504"/>
                    <a:pt x="3227" y="514"/>
                    <a:pt x="3098" y="522"/>
                  </a:cubicBezTo>
                  <a:cubicBezTo>
                    <a:pt x="2985" y="504"/>
                    <a:pt x="2967" y="505"/>
                    <a:pt x="2824" y="513"/>
                  </a:cubicBezTo>
                  <a:cubicBezTo>
                    <a:pt x="2733" y="530"/>
                    <a:pt x="2642" y="537"/>
                    <a:pt x="2550" y="550"/>
                  </a:cubicBezTo>
                  <a:cubicBezTo>
                    <a:pt x="2443" y="544"/>
                    <a:pt x="2342" y="539"/>
                    <a:pt x="2238" y="513"/>
                  </a:cubicBezTo>
                  <a:cubicBezTo>
                    <a:pt x="2157" y="493"/>
                    <a:pt x="2082" y="453"/>
                    <a:pt x="2002" y="428"/>
                  </a:cubicBezTo>
                  <a:cubicBezTo>
                    <a:pt x="1907" y="364"/>
                    <a:pt x="2050" y="456"/>
                    <a:pt x="1936" y="399"/>
                  </a:cubicBezTo>
                  <a:cubicBezTo>
                    <a:pt x="1860" y="361"/>
                    <a:pt x="1797" y="298"/>
                    <a:pt x="1738" y="239"/>
                  </a:cubicBezTo>
                  <a:cubicBezTo>
                    <a:pt x="1713" y="214"/>
                    <a:pt x="1695" y="181"/>
                    <a:pt x="1672" y="154"/>
                  </a:cubicBezTo>
                  <a:cubicBezTo>
                    <a:pt x="1665" y="145"/>
                    <a:pt x="1658" y="136"/>
                    <a:pt x="1653" y="126"/>
                  </a:cubicBezTo>
                  <a:cubicBezTo>
                    <a:pt x="1648" y="117"/>
                    <a:pt x="1643" y="97"/>
                    <a:pt x="1643" y="9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3267000" cy="291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45080" y="92160"/>
            <a:ext cx="42346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GENERALIZED NODE IS ANY PART OF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WHERE THERE IS NO ACCU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3760" y="93024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 OR WE CAN MAKE SUPERNODE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GGREGATING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590920"/>
            <a:ext cx="1843200" cy="604800"/>
          </a:xfrm>
          <a:custGeom>
            <a:avLst/>
            <a:gdLst/>
            <a:ahLst/>
            <a:rect l="l" t="t" r="r" b="b"/>
            <a:pathLst>
              <a:path w="1161" h="381">
                <a:moveTo>
                  <a:pt x="46" y="23"/>
                </a:moveTo>
                <a:cubicBezTo>
                  <a:pt x="52" y="190"/>
                  <a:pt x="0" y="287"/>
                  <a:pt x="155" y="327"/>
                </a:cubicBezTo>
                <a:cubicBezTo>
                  <a:pt x="204" y="358"/>
                  <a:pt x="162" y="336"/>
                  <a:pt x="257" y="350"/>
                </a:cubicBezTo>
                <a:cubicBezTo>
                  <a:pt x="311" y="358"/>
                  <a:pt x="365" y="373"/>
                  <a:pt x="420" y="381"/>
                </a:cubicBezTo>
                <a:cubicBezTo>
                  <a:pt x="602" y="379"/>
                  <a:pt x="784" y="379"/>
                  <a:pt x="966" y="374"/>
                </a:cubicBezTo>
                <a:cubicBezTo>
                  <a:pt x="999" y="373"/>
                  <a:pt x="1031" y="352"/>
                  <a:pt x="1059" y="335"/>
                </a:cubicBezTo>
                <a:cubicBezTo>
                  <a:pt x="1083" y="320"/>
                  <a:pt x="1129" y="288"/>
                  <a:pt x="1129" y="288"/>
                </a:cubicBezTo>
                <a:cubicBezTo>
                  <a:pt x="1139" y="259"/>
                  <a:pt x="1153" y="240"/>
                  <a:pt x="1160" y="210"/>
                </a:cubicBezTo>
                <a:cubicBezTo>
                  <a:pt x="1158" y="179"/>
                  <a:pt x="1161" y="146"/>
                  <a:pt x="1153" y="116"/>
                </a:cubicBezTo>
                <a:cubicBezTo>
                  <a:pt x="1135" y="53"/>
                  <a:pt x="1050" y="39"/>
                  <a:pt x="997" y="31"/>
                </a:cubicBezTo>
                <a:cubicBezTo>
                  <a:pt x="958" y="18"/>
                  <a:pt x="928" y="7"/>
                  <a:pt x="888" y="0"/>
                </a:cubicBezTo>
                <a:cubicBezTo>
                  <a:pt x="633" y="2"/>
                  <a:pt x="379" y="0"/>
                  <a:pt x="124" y="7"/>
                </a:cubicBezTo>
                <a:cubicBezTo>
                  <a:pt x="93" y="8"/>
                  <a:pt x="85" y="37"/>
                  <a:pt x="46" y="23"/>
                </a:cubicBez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460600" y="4191120"/>
                <a:ext cx="28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aving 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aving 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63680" y="4876920"/>
                <a:ext cx="3314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 2 &amp; 3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920960" y="4876920"/>
            <a:ext cx="3733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5080" y="518148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ERPRETATION: SUM OF CURRENTS 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 2&amp;3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70920" y="563868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ISUALIZATION: WE CAN ENCLOSE NODES 2&amp;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SIDE A SURFACE THAT IS VIEWED A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NERALIZED NODE (OR SUPERN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105520" y="434880"/>
          <a:ext cx="335268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880"/>
                    <a:ext cx="33526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7920" y="65160"/>
            <a:ext cx="4691880" cy="580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BLEM SOLVING HINT: KCL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FIND A MISSING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9200" y="685800"/>
          <a:ext cx="230688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" y="685800"/>
                    <a:ext cx="2306880" cy="2548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300400" y="625320"/>
            <a:ext cx="2314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143000"/>
                <a:ext cx="2133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95480" y="14619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2104920" y="2073240"/>
            <a:ext cx="25275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ich way are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 on branch a-b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280" y="3521160"/>
            <a:ext cx="4234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AND PRACTICE NOTATION CONVEN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SAME TIM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4920" y="4114800"/>
                <a:ext cx="914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449720" y="4054320"/>
            <a:ext cx="2847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,b,c,d,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RANCH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-b,c-b,d-b,e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52480" y="4648320"/>
          <a:ext cx="2144880" cy="14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648320"/>
                    <a:ext cx="2144880" cy="1434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27320" y="624852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043960" y="92160"/>
            <a:ext cx="26344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ALL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685800"/>
            <a:ext cx="2362320" cy="1522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495760" y="3429000"/>
          <a:ext cx="31147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5760" y="3429000"/>
                    <a:ext cx="3114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486400" y="1828800"/>
            <a:ext cx="30492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45000" y="3962520"/>
          <a:ext cx="30895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45000" y="3962520"/>
                    <a:ext cx="3089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781680" y="1828800"/>
            <a:ext cx="22860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419720" y="4314960"/>
          <a:ext cx="4114800" cy="40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314960"/>
                    <a:ext cx="411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924680" y="1752480"/>
            <a:ext cx="304920" cy="38124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34120" y="4648320"/>
          <a:ext cx="3198600" cy="42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648320"/>
                    <a:ext cx="31986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715000" y="2971800"/>
            <a:ext cx="2590920" cy="30492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148360" y="5029200"/>
          <a:ext cx="34606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5029200"/>
                    <a:ext cx="3460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733640" y="5578560"/>
            <a:ext cx="41277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FIFTH EQUATION IS THE SUM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FOUR... IT IS REDUNDA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320" y="-76320"/>
          <a:ext cx="51721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6320" y="-76320"/>
                    <a:ext cx="5172120" cy="4689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191200" y="0"/>
          <a:ext cx="3952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0" y="0"/>
                    <a:ext cx="395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410080" y="685800"/>
          <a:ext cx="3456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68580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209680" y="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2057400"/>
            <a:ext cx="38088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95840" y="1562040"/>
          <a:ext cx="44481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5840" y="1562040"/>
                    <a:ext cx="444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438280" y="182880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410080" y="2057400"/>
          <a:ext cx="3417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2057400"/>
                    <a:ext cx="3417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410080" y="6094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59092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1295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6320" y="-27000"/>
            <a:ext cx="27410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MISSING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280" y="478944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INTER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YPE OF COMPONENT IS IR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4400" y="5398920"/>
            <a:ext cx="591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TOPOLOGY OF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228600"/>
          <a:ext cx="479268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228600"/>
                    <a:ext cx="47926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58040" y="-11160"/>
            <a:ext cx="45698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CL EQUATION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5360" y="4343400"/>
          <a:ext cx="4346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4343400"/>
                    <a:ext cx="4346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0880" y="19810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18288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876920"/>
            <a:ext cx="40384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343400"/>
            <a:ext cx="35812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0574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5334120"/>
            <a:ext cx="403848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38098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5867280"/>
            <a:ext cx="35812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00680" y="762120"/>
            <a:ext cx="3914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RESENCE OF A DEPEND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OES NOT AFFECT APPLICATION OF 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CL DEPENDS ONLY ON THE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00680" y="228600"/>
            <a:ext cx="40208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AST EQUATION IS AGAIN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OF THE PREVIOUS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517212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0"/>
                    <a:ext cx="5172120" cy="46893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479920" y="249120"/>
            <a:ext cx="3527280" cy="1739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Here we illustrate th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f a more general ide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ode. The shaded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ncloses a section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ircuit and can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s a BIG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1752480"/>
            <a:ext cx="259056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28600" y="4800600"/>
                <a:ext cx="43434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 OF CURRENTS LEAVING BIG NOD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9480" y="51055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803240" y="548640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78560" y="580716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I5 BECOMES INTERNAL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AND IT IS NOT NEEDED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0"/>
            <a:ext cx="44956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1:32:47Z</dcterms:created>
  <dc:creator>Jorge Aravena</dc:creator>
  <dc:description/>
  <dc:language>en-US</dc:language>
  <cp:lastModifiedBy>Jorge Aravena</cp:lastModifiedBy>
  <cp:lastPrinted>2000-06-07T18:25:37Z</cp:lastPrinted>
  <dcterms:modified xsi:type="dcterms:W3CDTF">2004-07-24T14:23:37Z</dcterms:modified>
  <cp:revision>22</cp:revision>
  <dc:subject/>
  <dc:title>No Slide Title</dc:title>
</cp:coreProperties>
</file>